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67A2C0-DE40-42D3-A280-BFE38D68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B16-C18E-4400-9782-02B2BC9A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54A-6FBF-4801-AD81-849260FB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32A-40B3-4952-8926-41C1A655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0DF-4454-4831-BE51-2D00C685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F3B2-EC0C-40F3-AE96-8C23C8B6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471-D1F1-4DA5-943E-D8BEBFE7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C63D-A46D-48DC-88BE-1BA92082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A2C5-1D89-4CE1-9359-AB323A5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1E3F-2818-417C-A4D0-A052DD89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0D27-828A-4CDB-AC6D-C6E493D9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26C6-BC43-40CB-826A-B12A59BF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D67-61C1-426C-B876-F5B36DA3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D628-DE17-4B33-9D35-2707D92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E5F0-7A6E-4D0E-B3BA-C9E13D1E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532F-3FBF-48E9-AF96-C4242E9A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389F-9341-436D-AD2D-AB6D5A8C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776-0B02-47CD-AB20-2D2FABCE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3C89-20C1-403D-A41C-C87D5434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B0FCB-FC85-46A9-99B4-3B756ABB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D140-DCEF-40E1-AE87-4FE101D1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FAC6-647F-4D53-A62C-6837D0EF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17FB-9B8F-4CF1-882E-2A20EA9D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950-B34C-4418-B107-CFFC99AF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F3DF-F0D6-4B5A-A774-B9A15140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D9B8F-6B67-4ED1-9E31-255D2556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3837-FACB-4939-A0B4-0D3B1ADB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709E-A470-4110-8DE5-3BAE56BF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D594-37B6-4CFA-A4EF-6E2C1B01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C2835-286E-4905-99FE-46AE61C5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FC5F-A74D-42F7-A517-3590292E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0C9F-5387-4389-AF03-B501FFB6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1E46-ED7D-4F69-931E-9B154D49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6EEE5-28DD-4BE8-AC1A-80BA47DE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D0D-AA89-4936-B9A8-C6B8F9EE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B144-AC7C-4B99-9023-60F0E9AA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781F-3593-4144-9E95-C32932CA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1AB9-FDC8-42A6-B902-0E838F90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5793-B695-4A67-AAC0-44DA034D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F3DA-8AFB-4CD1-86FA-5B77C685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BBD9-3184-43DD-94E9-F6DBC9C1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3174-BD11-4830-8E5B-DD3CCB55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A268-BAB3-418C-A537-981AD19D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82C2-A7C4-4E7D-ADB4-8919DDD9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CF1-C5AB-49F9-B691-1ACBE6EA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097-5274-4602-B252-3706E518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E5C-1493-46FF-8C08-8301DB8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438-9EA9-47BF-83C4-73D988DC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39B-068C-4392-B16E-DEC877F7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48F7-E68A-4864-8155-3B9487BD3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B527-27B8-404B-9E7B-8C6A9DF45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1698-0AA0-444F-9E13-E98D5B7231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A0E8-AF5D-4CC9-BDE0-DCEDC79E04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10:16Z</dcterms:modified>
  <cp:revision>15</cp:revision>
  <dc:subject/>
  <dc:title>PowerPoint Presentation</dc:title>
</cp:coreProperties>
</file>