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4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5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BB0050-63CE-4521-955D-3EAF6656C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ain times to use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ve listening helps people who are in the reptilian brain mode to become more resourceful f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a person trying to understand another person’s perspective. Speaker says something that triggers an emotion in the listener.  If listener interrupts the speaker with a reactive response, interferes with speakers’s communication process and shuts down.  Reactions are not wrong, they’re just not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your organization and your role.  What is the culture you are trying to create?  Go back to the purposes of reflective list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244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rguing -- men tend to do this;   Reassuring -- women do this;   Understanding -- “I understan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king -- guys do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not wrong (sometimes useful and necessary) -- they are just not listening.  Takes rigor and discipline to be present for the other person.  Job is to take in the da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reactive response do you generally find yourself using?  What can you do abou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er:  Interrupt every 30 seconds or so if necessary to let the speaker know you are liste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408-72AE-40A3-90E4-D984D129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6CA-F2F9-45B9-9A0F-E1FAAD3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CA3-9E58-443C-9D97-8467344F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ECD-CCB4-4B19-9FAB-A34B5897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615F-E873-4E84-884F-4F9DBCD5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6EAA-F9AD-4C3D-8BA2-3D92A5CE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7D8D-0BC7-49CB-AC1D-AD86B2E7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8F05-856C-4560-B33C-D0DC6F2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DC70-64AF-47C5-9187-44D919C2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0A79-61E9-4330-8880-5691ABE1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6ACA-4E21-451E-BC0A-049E480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269-AF39-4509-88E9-00C02F9D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F319-332F-416F-8EB0-2F95B055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C2E5-2F89-40FE-AA52-432B94D2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5B55-58EE-4146-AF9D-97880AB7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8F63-B2FB-4B0C-AAFE-A296E754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CA54-BCF4-4648-A15B-C404DEA5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3E3A-A7A1-48AE-AE4E-83EEFA2F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DD0F6-3DE0-4C4E-922B-FC094423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B3A10-1334-4D88-9F40-8797B78B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5B56-34B8-4ADE-8BEE-3919510B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F4D6-48C6-4A1E-8BAE-26A76D3C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00A-5661-4E96-8875-5B24522F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8711-FF76-4A8F-8D28-4ED01138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6650-A844-4F6B-B7A4-328170B8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94EF-9AB7-4BEA-BA89-A941427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C89B-0810-49E5-8B9F-A58DDDCC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21FD-647A-4A5A-B17F-00320F13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69EE-F218-4B5A-BB29-16A9FC7C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0A95-3F1C-44EC-AFF5-5885B53C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D4DC-642C-4F32-A4E2-A04CD926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B0648-3979-44E4-B0BE-2378788A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56E1-1924-4EA4-B3C7-5296FF9E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514-49ED-4A8A-9118-421D0110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B53F5-2849-48D1-AF07-0A129F6D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1BAAF-2CA7-4793-B71C-CA2713E6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922E-DF9A-4682-833D-18CC4BA1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3E0AE-6DB2-4C6F-B993-299D5DD8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3D5D-152F-4FA1-A74A-813C0F7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5FFF-42E2-4DCA-93DE-AC9C4AD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FE9A-08EC-45C2-88CB-60F6797E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E59E0-94F7-47F9-B12D-EC93D53A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1DEF-25D0-4C19-B72E-12C5A552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196-409D-466B-B643-6C2A2074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820-F32F-4006-BFE2-1C791BF7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B45-A9C2-4E49-B74D-3CD715C4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DCD-48FB-4DAC-A888-591D4026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374-9F9C-4A88-A818-65F4FC85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74D8-2F22-4407-9C7C-61B687A0D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02D2-9A3F-4960-A654-0F845034D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FED3-D74A-4D15-9CF4-187BD4193A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1CB4-42A2-4DD7-9609-1A02C896B0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eacher, what principles underlie my relationship and interactions with my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build trust with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ncourage reflection and minimize advice gi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demonstrate that I care about my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listen effective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ask questions that will promote learning and refl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 empower students to become independent learners committed to their own continuous develop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flective Listening Purpo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distortion, bias, de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accuracy, especially when dealing with import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relationship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Liste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4 unproductive patterns of liste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biograp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/critic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y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reac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 stimulus-response reaction to something the speaker says; a non-listening response that interferes with the speaker completing his / h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ategories of Reactive Respon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12960" y="2138400"/>
          <a:ext cx="8110080" cy="3709440"/>
        </p:xfrm>
        <a:graphic>
          <a:graphicData uri="http://schemas.openxmlformats.org/drawingml/2006/table">
            <a:tbl>
              <a:tblPr/>
              <a:tblGrid>
                <a:gridCol w="2703600"/>
                <a:gridCol w="2702880"/>
                <a:gridCol w="270360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ud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renting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voiding / Dive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  <a:tr h="264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greeing / disagr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icizing / bla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agno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a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0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rd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reat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raliz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dvi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estio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blem solv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gical argu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assu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ve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derstan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Jo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Arial"/>
                        <a:buAutoNum type="arabicPeriod" startAt="11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e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other Pause . . 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kind of reactive responses do you tend to use?  When is it useful?  When does it interfere with good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thoughts with a learning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om the Greek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a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beyond) +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raze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to tell) = to tell bey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ster:  A rewording of the thought or meaning expressed in something that has been said or writt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raphra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3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Ar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720" y="1904760"/>
            <a:ext cx="3973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understand you (or am trying 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end 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with the intention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the essence of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the essence of voice tone and ges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the paraphrase shorter than the origi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phrase before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pronoun “you,” instead of “I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 Distinc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ffective paraphrase expresses empathy by reflecting both the feeling and the content of the me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athizing is a statement that only reflects the feelings of th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 Leve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Power of Relationsh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981080"/>
            <a:ext cx="64767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52120" y="2514600"/>
            <a:ext cx="256068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2514600"/>
            <a:ext cx="2711520" cy="301608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 rot="18697200">
            <a:off x="2468520" y="3655800"/>
            <a:ext cx="119520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CONTENT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 rot="2808600">
            <a:off x="4698720" y="3682800"/>
            <a:ext cx="152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PEDAGOGY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562720"/>
            <a:ext cx="5257800" cy="0"/>
          </a:xfrm>
          <a:prstGeom prst="line">
            <a:avLst/>
          </a:prstGeom>
          <a:ln w="38160">
            <a:solidFill>
              <a:srgbClr val="730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5334120"/>
            <a:ext cx="3465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0c17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knowledge and Clarif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487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think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you’re wondering if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frustrated because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hoping tha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’re concerned about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943600" y="2627280"/>
          <a:ext cx="2522520" cy="21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627280"/>
                    <a:ext cx="25225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ummarize and Organiz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there are three issue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, you’re ready to move on to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you’re going to . . . then you will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one hand . . . and on the other hand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161040" y="3049560"/>
          <a:ext cx="2862360" cy="190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1040" y="3049560"/>
                    <a:ext cx="2862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ift Conceptual Foc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976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oals, values, beliefs, assumptions,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, a strong belief you have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umption you’re operating from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goal for you is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apted from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enter for Cognitive Co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267160" y="2819520"/>
          <a:ext cx="25038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7160" y="2819520"/>
                    <a:ext cx="25038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Paraphrasing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actice in Tria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3 roles: an observer, paraphraser, person with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complaining about having too much on his/her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who is struggling with classroom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who is angry about having to read a novel he/she doesn’t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sitive Presupposi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ositive presuppositions that presume a person has ability, attitude and in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mmunicates that the listener expects that the person has already considered the question or issue being rai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 the sp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ceptance and resp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Advo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7675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bing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be is to focus thinking.  Language is filled with generalities and ambiguities.  Coaches probe for specif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gue verbs and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84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thinking, thus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events from multipl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 categor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stions that Invit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able voice (vs. credible 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natomy of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Powerful Thinking Ques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 and explorato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abl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62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ltimate Go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888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eciprocal, learning-focused relationships, support self-direct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71560" y="749160"/>
            <a:ext cx="78436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ffective Questions Practi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questions below to utilize the characteristics of effecti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s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consider making sure all the students understood the learning before moving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t is important to use visuals with second language learners, how did you do that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actively involve students during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213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ches mediate by having the teac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vidence of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data gathering focu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560" y="533160"/>
            <a:ext cx="79279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enefits of the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4960" y="2057400"/>
            <a:ext cx="851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developing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n opportunity for mental rehea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 a common understanding of what will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parameters for the reflecting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self-co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663480"/>
            <a:ext cx="8163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lanning Conversatio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71720" y="2060280"/>
            <a:ext cx="772776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 the demonstration confer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rd your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560" y="663480"/>
            <a:ext cx="79279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ding Questions for Plann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30480" y="2292120"/>
            <a:ext cx="77277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 the example questions in the pac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ractice, these questions are supplemented with probing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05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ve a clear purp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main neut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prepared with questions and probes in adv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k questions to get information, to understand more thoroughly, to sustain discus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active listening ski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lance ai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stain discussion until you have explored the topic thorough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frain from giving ad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ign verbal and non-verbal commun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 sensitive to feelings, fears, and emo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intain positive inten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ring clo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a conversation at your table.   What are the characteristics of interrogation?  What does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terrogation vs. Inquir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haracteristics of inquiry?  How does inquiry differ from interrog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ference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repared with questions and probes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questions to get information, to understand more thoroughly, to sustai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tive listen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discussion until you have explored the topic thoroug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ain from giving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verbal and non-verb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 ai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ensitive to feelings, fears, and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positive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aching Behaviors that Influence Think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rappor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phra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data 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4572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Rap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 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Commonly Defined Go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+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arity of Outcome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br>
              <a:rPr sz="3200"/>
            </a:b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609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9718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42670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55627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I learned that SQUARES with my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mportant POINTS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going AROUND in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ust and Rap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akes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regard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48280" y="1904760"/>
            <a:ext cx="348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o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201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mmunicating Meaning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portion of meaning inferred from non-verbal and verbal compon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n 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erbal 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o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i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es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xim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l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uscle 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al 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earning Conversation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Presup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us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inking before answering and before asking additional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 comfortable with wait time i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oughtfulness in all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e importance of si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eep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Types of Pau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question is as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omeone sp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ing before answ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ve 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2:50:22Z</dcterms:created>
  <dc:creator>heather clifton</dc:creator>
  <dc:description/>
  <dc:language>en-US</dc:language>
  <cp:lastModifiedBy>Mary Lou</cp:lastModifiedBy>
  <dcterms:modified xsi:type="dcterms:W3CDTF">2010-09-25T02:10:16Z</dcterms:modified>
  <cp:revision>15</cp:revision>
  <dc:subject/>
  <dc:title>PowerPoint Presentation</dc:title>
</cp:coreProperties>
</file>