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14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15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45AD659-A9A6-449E-A552-51BB30FAA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ain times to use this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ive listening helps people who are in the reptilian brain mode to become more resourceful fa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a person trying to understand another person’s perspective. Speaker says something that triggers an emotion in the listener.  If listener interrupts the speaker with a reactive response, interferes with speakers’s communication process and shuts down.  Reactions are not wrong, they’re just not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about your organization and your role.  What is the culture you are trying to create?  Go back to the purposes of reflective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244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arguing -- men tend to do this;   Reassuring -- women do this;   Understanding -- “I understan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king -- guys do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are not wrong (sometimes useful and necessary) -- they are just not listening.  Takes rigor and discipline to be present for the other person.  Job is to take in the dat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reactive response do you generally find yourself using?  What can you do about 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ner:  Interrupt every 30 seconds or so if necessary to let the speaker know you are liste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904F-9ED1-4F75-9BB3-52E5F5E1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9DE9-249B-4B4A-A56E-6A26281E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14D5-0746-4F76-AF2A-C0B50E7A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CD8B-070E-442C-8D9E-6BAA61AE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A4BC-EEA1-41F0-9E81-C9B6277E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1317-C6CC-4A8C-A350-FF4BADE1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7329-2C8B-4B09-B311-052DF05D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EFF2-FC28-4C12-8198-17C76655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D706-980D-4EB6-9A86-9019C503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2437-0827-43BC-B72F-D0A9009E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0CEC-BD9F-4862-B3E4-54154F3C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07E2-B320-46C0-B92E-E44C6438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AD4A-C8AB-4887-922D-E3ECCC9C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A8FD-DEB2-4471-B439-22CD5782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5A95-C8D2-4670-9270-355DE3A2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5905-6F5E-480F-9E4A-1F5EAEAB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3484-7E5A-49FF-82C0-102B163D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72286-F310-4BB7-872E-63E1C43A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A9BB5-B772-400A-B024-6FA9314C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11D9B-4260-40C8-8417-E51684CE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4EB45-5A41-4BCE-B7C1-E3D4D0E0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8DFD3-1CA2-40F0-9F58-76D37C21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23D-CEC2-4FB5-BAC1-17A09579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12A2C-8416-4EA5-8994-5C5BF632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DFACA-367A-4D4D-942F-2C83832D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6B690-B4FB-48FB-865C-3A793F44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0809A-BD39-4360-93EE-C9F24AEB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B5E8F-2099-47B3-BF65-D54A387F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111E3-D2D3-4E83-B776-CC0B30A5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A4753-DE4F-49BA-B240-8718221F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A41AA-7739-4FC2-BF59-E14A88A3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90C1C-88DD-456F-B4E3-48A37EED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CC490-3A3F-47F4-9751-62A3BB53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0D2-57F6-4315-A6B0-5D84919D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39358-3FAF-4784-9FBE-660998B8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27180-B75B-40FA-B624-4A2233B4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FA116-3FD6-4E24-A2F1-F9A4A602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54F6F-B20F-4C7A-8382-81B9790B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DF657-71CF-4E07-AECE-C3D41F5E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B0E6C-FC97-4375-BD92-DF36E7EA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FEBCB-48A9-4C3A-A5B3-6B1B6279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5DB34-01BA-49A6-91C3-29F8B8EC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75CC2-5467-473A-9513-99FEB78F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1E2-A398-4CAD-A85B-86B98950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B18-3250-493A-A0A4-7AA67FCE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4B9-BEDA-48EC-8EB1-8C1B2935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1A4-A4F0-4080-A9A3-87369AB2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3351-3611-4D1F-B703-6DD5F513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CB16-76BE-4F94-9D20-381ADF690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4EED-F7D3-49B1-B627-EFB54EF37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6FDF-1506-46D1-82A8-6F43882ABA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3FB3-AAC3-4478-BEBA-E7DDDC2163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teacher, what principles underlie my relationship and interactions with my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build trust with my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encourage reflection and minimize advice giv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demonstrate that I care about my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listen effective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ask questions that will promote learning and refle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empower students to become independent learners committed to their own continuous develop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flective Listening Purpo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distortion, bias, de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accuracy, especially when dealing with importa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e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relationship a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Liste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4 unproductive patterns of liste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biograp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gment/crit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y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reactive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active Respon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A stimulus-response reaction to something the speaker says; a non-listening response that interferes with the speaker completing his / her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ategories of Reactive Respon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912960" y="2138400"/>
          <a:ext cx="8110080" cy="3709440"/>
        </p:xfrm>
        <a:graphic>
          <a:graphicData uri="http://schemas.openxmlformats.org/drawingml/2006/table">
            <a:tbl>
              <a:tblPr/>
              <a:tblGrid>
                <a:gridCol w="2703600"/>
                <a:gridCol w="2702880"/>
                <a:gridCol w="2703600"/>
              </a:tblGrid>
              <a:tr h="106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ud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0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renting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ol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voiding / Diver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eb2"/>
                    </a:solidFill>
                  </a:tcPr>
                </a:tc>
              </a:tr>
              <a:tr h="264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greeing / disagree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riticizing / blam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agno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ai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0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rde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reate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oraliz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dvi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Questio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blem solv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ff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gical argu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assu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ver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derstand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o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eb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nother Pause . . 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kind of reactive responses do you tend to use?  When is it useful?  When does it interfere with good commun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thoughts with a learning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raphra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m the Greek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beyond)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hrazei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to tell) = to tell bey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ster:  A rewording of the thought or meaning expressed in something that has been said or written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raphra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73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Ar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49720" y="1904760"/>
            <a:ext cx="3973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am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understand you (or am trying 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nd 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en with the intention to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ure the essence of the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ct the essence of voice tone and ges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the paraphrase shorter than the original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phrase before asking a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pronoun “you,” instead of “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2 Distinc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ffective paraphrase expresses empathy by reflecting both the feeling and the content of the mess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athizing is a statement that only reflects the feelings of th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3 Leve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 and clar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ize and organ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conceptual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Power of Relationshi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981080"/>
            <a:ext cx="647676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752120" y="2514600"/>
            <a:ext cx="2560680" cy="301608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2514600"/>
            <a:ext cx="2711520" cy="301608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 rot="18697200">
            <a:off x="2468520" y="3655800"/>
            <a:ext cx="1195200" cy="5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CONTENT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 rot="2808600">
            <a:off x="4698720" y="3682800"/>
            <a:ext cx="152388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PEDAGOGY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5562720"/>
            <a:ext cx="5257800" cy="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19520" y="5334120"/>
            <a:ext cx="3465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30c17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cknowledge and Clarif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487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thinking tha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, you’re wondering if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frustrated because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hoping tha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concerned about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943600" y="2627280"/>
          <a:ext cx="2522520" cy="21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627280"/>
                    <a:ext cx="252252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ummarize and Organiz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there are three issues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you’re ready to move on to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you’re going to . . . then you will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one hand . . . and on the other hand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161040" y="3049560"/>
          <a:ext cx="2862360" cy="190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1040" y="3049560"/>
                    <a:ext cx="286236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hift Conceptual Focu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976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oals, values, beliefs, assumptions,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, a strong belief you have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ssumption you’re operating from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oal for you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5267160" y="2819520"/>
          <a:ext cx="250380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7160" y="2819520"/>
                    <a:ext cx="2503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re Paraphrasing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actice in Tria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3 roles: an observer, paraphraser, person with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who is complaining about having too much on his/her 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who is struggling with classroom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who is angry about having to read a novel he/she doesn’t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ositive Presupposi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ositive presuppositions that presume a person has ability, attitude and int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mmunicates that the listener expects that the person has already considered the question or issue being rai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 the 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acceptance and resp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ve Advo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b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diational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71200" y="663480"/>
            <a:ext cx="76755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bing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2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be is to focus thinking.  Language is filled with generalities and ambiguities.  Coaches probe for specif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ue verbs and 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843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thinking, thus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ine events from multiple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oss categor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uestions that Invite Think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able voice (vs. credible vo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ural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Anatomy of a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Powerful Thinking Ques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r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men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ative and explorator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abl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162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ltimate Goa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6888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reciprocal, learning-focused relationships, support self-direct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71560" y="749160"/>
            <a:ext cx="78436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Questions Practi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questions below to utilize the characteristics of effectiv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the students lea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consider making sure all the students understood the learning before moving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 it is important to use visuals with second language learners, how did you do that during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actively involve students during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927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213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ches mediate by having the teac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 teach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vidence of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data gathering focu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560" y="533160"/>
            <a:ext cx="79279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enefits of the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4960" y="2057400"/>
            <a:ext cx="8518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s in developing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n opportunity for mental rehea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 a common understanding of what will be ob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 parameters for the reflecting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s self-co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71200" y="663480"/>
            <a:ext cx="81630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71720" y="2060280"/>
            <a:ext cx="77277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e the demonstration confer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rd your observ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927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uiding Questions for Plan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30480" y="2292120"/>
            <a:ext cx="772776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 the example questions in the pack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practice, these questions are supplemented with probing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05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ation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ave a clear purp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main neutr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 prepared with questions and probes in adv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k questions to get information, to understand more thoroughly, to sustain discus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se active listening ski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alance air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ustain discussion until you have explored the topic thorough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frain from giving adv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ign verbal and non-verbal commun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 sensitive to feelings, fears, and emo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intain positive inten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ring clo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rogation vs. Inquir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a conversation at your table.   What are the characteristics of interrogation?  What does it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rogation vs. Inquir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characteristics of inquiry?  How does inquiry differ from interrogatio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ference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 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repared with questions and probes in ad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questions to get information, to understand more thoroughly, to sustain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tive listen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tain discussion until you have explored the topic thoroug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rain from giving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 verbal and non-verbal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ai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sensitive to feelings, fears, and e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positive int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aching Behaviors that Influence Think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rappor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i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phra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data 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457200"/>
            <a:ext cx="7772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appo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 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Commonly Defined Go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arity of Outcome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6094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9718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426708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556272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xit Sli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I learned that SQUARES with my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important POINTS to 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stion going AROUND in my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rust and Rap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st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akes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regard for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48280" y="1904760"/>
            <a:ext cx="3486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the mo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201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ommunicating Meaning</a:t>
            </a:r>
            <a:br>
              <a:rPr sz="3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portion of meaning inferred from non-verbal and verbal component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n Verbal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rbal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os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it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es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xim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fl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uscle T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acial Exp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earning Conversation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u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38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inking before answering and before asking additional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 comfortable with wait time in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oughtfulness in all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the importance of si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deep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4 Types of Pau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question is as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omeone sp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ing before answ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llective p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2:50:22Z</dcterms:created>
  <dc:creator>heather clifton</dc:creator>
  <dc:description/>
  <dc:language>en-US</dc:language>
  <cp:lastModifiedBy>Mary Lou</cp:lastModifiedBy>
  <dcterms:modified xsi:type="dcterms:W3CDTF">2010-09-25T02:08:14Z</dcterms:modified>
  <cp:revision>15</cp:revision>
  <dc:subject/>
  <dc:title>PowerPoint Presentation</dc:title>
</cp:coreProperties>
</file>