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14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15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6489389-AE4B-4B41-B128-96683FACF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ain times to use this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ive listening helps people who are in the reptilian brain mode to become more resourceful fa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a person trying to understand another person’s perspective. Speaker says something that triggers an emotion in the listener.  If listener interrupts the speaker with a reactive response, interferes with speakers’s communication process and shuts down.  Reactions are not wrong, they’re just not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about your organization and your role.  What is the culture you are trying to create?  Go back to the purposes of reflective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244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arguing -- men tend to do this;   Reassuring -- women do this;   Understanding -- “I understan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king -- guys do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are not wrong (sometimes useful and necessary) -- they are just not listening.  Takes rigor and discipline to be present for the other person.  Job is to take in the dat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reactive response do you generally find yourself using?  What can you do about 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ner:  Interrupt every 30 seconds or so if necessary to let the speaker know you are liste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92E-4C22-4E1C-902F-87F146BB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40F3-34A0-4418-A100-F8C2F3D4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EA68-628C-4964-B597-B1A31429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D0C4-527E-48BD-8FC6-E8009755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B837-169A-4F87-B21A-5A3D98F5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7698-BAF3-4CDE-BDB5-70CB4B55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75CF-97D2-4951-8242-0FC6F041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5B1C-F84A-4F57-B91C-FCE52F6C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1A94-7628-4BBE-8176-5E057823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A4DE-57A0-442F-A73E-72C8F9ED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A564-20EB-4F77-8536-37D81AE3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9DB-C2A4-42A5-95F8-2BA7A415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0687-A7F2-44E3-B8A7-BA9B49EB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0FBD-ED12-4628-8545-C35A89F8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D46B-D028-4714-A415-5238F029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BA17-3630-41FF-B73A-DA7E8E97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6947-4469-4673-9504-E962EDAA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CAF65-9EAC-4237-ABA0-8D73B14A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5812B-AE4B-4794-B190-440FAE25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AD305-790E-4F6E-904A-05CCA46B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7A918-763E-448E-AEF0-4BEF2466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469BD-E147-40E9-BC91-6F7E2341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4F4-8BAD-4491-8A70-A04EC442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0B4E5-4989-4410-BEDD-65B019DF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6DDFC-3DF1-4051-B3E2-BF596F20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3F9F2-0F4F-4249-8F58-C122E835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5E427-E5D1-462F-9A1D-FF6A8760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AE50D-EB97-4F75-A829-94F020B1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51C68-A3DE-4206-BFAE-424B373A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9CCCE-6458-4CD7-A8F7-35F042ED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EF08F-3298-4D41-9566-FADB1C99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1D1FB-5E24-4C1B-8051-2B76550C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837DB-BB06-4597-9A17-C64E2438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CAB1-A5BD-4B1F-9A9A-92DA4833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2B02F-D487-4B03-8CA9-5AB6E157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425DD-3302-4638-B553-7492D263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436A7-BD12-4000-8F69-A301BD73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B34FA-09FB-40C7-B437-CE0050BD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75501-05ED-4FA8-8041-B5661595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F6BF8-F86E-4BDC-804D-8472ABBE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FCA98-44BF-4522-A2AE-4A749ECB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CF770-9E07-4C92-849A-51ADFC12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E006B-D795-426F-8F0B-ECC963BA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A6F9-7F7B-4D41-9ECE-541816E1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94F7-B753-4E4F-939C-3DA15AB8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780B-A762-4EC1-8CBA-A52A7D34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8E7-73CA-4BCD-9F20-3E16F56A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243-FB9E-416E-B815-6C07F36F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76E3-0E8F-4C9C-8EF4-9D36AA615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1D06-7866-4B81-871A-554A5386C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A1AB-50E5-4821-8D57-1D32AEB661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8226-522A-48AC-9DB8-45D9EDF002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teacher, what principles underlie my relationship and interactions with my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build trust with my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encourage reflection and minimize advice giv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demonstrate that I care about my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listen effective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ask questions that will promote learning and refle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empower students to become independent learners committed to their own continuous develop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flective Listening Purpo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distortion, bias, de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accuracy, especially when dealing with importa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e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relationship a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Liste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4 unproductive patterns of liste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biograp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gment/crit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y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reactive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active Respon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A stimulus-response reaction to something the speaker says; a non-listening response that interferes with the speaker completing his / her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ategories of Reactive Respon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912960" y="2138400"/>
          <a:ext cx="8110080" cy="3709440"/>
        </p:xfrm>
        <a:graphic>
          <a:graphicData uri="http://schemas.openxmlformats.org/drawingml/2006/table">
            <a:tbl>
              <a:tblPr/>
              <a:tblGrid>
                <a:gridCol w="2703600"/>
                <a:gridCol w="2702880"/>
                <a:gridCol w="2703600"/>
              </a:tblGrid>
              <a:tr h="106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ud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0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renting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ol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voiding / Diver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eb2"/>
                    </a:solidFill>
                  </a:tcPr>
                </a:tc>
              </a:tr>
              <a:tr h="264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greeing / disagree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riticizing / blam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agno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ai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0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rde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reate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oraliz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dvi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Questio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blem solv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ff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gical argu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assu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ver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derstand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o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eb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nother Pause . . 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kind of reactive responses do you tend to use?  When is it useful?  When does it interfere with good commun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thoughts with a learning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raphra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m the Greek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beyond)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hrazei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to tell) = to tell bey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ster:  A rewording of the thought or meaning expressed in something that has been said or written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raphra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73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Ar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49720" y="1904760"/>
            <a:ext cx="3973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am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understand you (or am trying 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nd 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en with the intention to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ure the essence of the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ct the essence of voice tone and ges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the paraphrase shorter than the original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phrase before asking a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pronoun “you,” instead of “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2 Distinc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ffective paraphrase expresses empathy by reflecting both the feeling and the content of the mess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athizing is a statement that only reflects the feelings of th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3 Leve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 and clar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ize and organ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conceptual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Power of Relationshi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981080"/>
            <a:ext cx="647676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752120" y="2514600"/>
            <a:ext cx="2560680" cy="301608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2514600"/>
            <a:ext cx="2711520" cy="301608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 rot="18697200">
            <a:off x="2468520" y="3655800"/>
            <a:ext cx="1195200" cy="5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CONTENT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 rot="2808600">
            <a:off x="4698720" y="3682800"/>
            <a:ext cx="152388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PEDAGOGY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5562720"/>
            <a:ext cx="5257800" cy="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19520" y="5334120"/>
            <a:ext cx="3465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30c17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cknowledge and Clarif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487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thinking tha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, you’re wondering if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frustrated because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hoping tha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concerned about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943600" y="2627280"/>
          <a:ext cx="2522520" cy="21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627280"/>
                    <a:ext cx="252252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ummarize and Organiz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there are three issues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you’re ready to move on to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you’re going to . . . then you will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one hand . . . and on the other hand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161040" y="3049560"/>
          <a:ext cx="2862360" cy="190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1040" y="3049560"/>
                    <a:ext cx="286236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hift Conceptual Focu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976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oals, values, beliefs, assumptions,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, a strong belief you have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ssumption you’re operating from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oal for you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5267160" y="2819520"/>
          <a:ext cx="250380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7160" y="2819520"/>
                    <a:ext cx="2503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re Paraphrasing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actice in Tria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3 roles: an observer, paraphraser, person with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who is complaining about having too much on his/her 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who is struggling with classroom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who is angry about having to read a novel he/she doesn’t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ositive Presupposi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ositive presuppositions that presume a person has ability, attitude and int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mmunicates that the listener expects that the person has already considered the question or issue being rai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 the 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acceptance and resp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ve Advo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b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diational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71200" y="663480"/>
            <a:ext cx="76755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bing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2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be is to focus thinking.  Language is filled with generalities and ambiguities.  Coaches probe for specif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ue verbs and 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843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thinking, thus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ine events from multiple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oss categor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uestions that Invite Think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able voice (vs. credible vo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ural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Anatomy of a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Powerful Thinking Ques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r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men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ative and explorator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abl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162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ltimate Goa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6888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reciprocal, learning-focused relationships, support self-direct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71560" y="749160"/>
            <a:ext cx="78436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Questions Practi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questions below to utilize the characteristics of effectiv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the students lea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consider making sure all the students understood the learning before moving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 it is important to use visuals with second language learners, how did you do that during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actively involve students during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927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213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ches mediate by having the teac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 teach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vidence of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data gathering focu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560" y="533160"/>
            <a:ext cx="79279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enefits of the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4960" y="2057400"/>
            <a:ext cx="8518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s in developing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n opportunity for mental rehea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 a common understanding of what will be ob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 parameters for the reflecting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s self-co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71200" y="663480"/>
            <a:ext cx="81630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71720" y="2060280"/>
            <a:ext cx="77277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e the demonstration confer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rd your observ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927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uiding Questions for Plan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30480" y="2292120"/>
            <a:ext cx="772776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 the example questions in the pack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practice, these questions are supplemented with probing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05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ation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ave a clear purp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main neutr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 prepared with questions and probes in adv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k questions to get information, to understand more thoroughly, to sustain discus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se active listening ski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alance air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ustain discussion until you have explored the topic thorough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frain from giving adv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ign verbal and non-verbal commun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 sensitive to feelings, fears, and emo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intain positive inten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ring clo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rogation vs. Inquir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a conversation at your table.   What are the characteristics of interrogation?  What does it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rogation vs. Inquir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characteristics of inquiry?  How does inquiry differ from interrogatio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ference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 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repared with questions and probes in ad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questions to get information, to understand more thoroughly, to sustain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tive listen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tain discussion until you have explored the topic thoroug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rain from giving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 verbal and non-verbal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ai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sensitive to feelings, fears, and e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positive int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aching Behaviors that Influence Think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rappor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i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phra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data 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457200"/>
            <a:ext cx="7772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appo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 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Commonly Defined Go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arity of Outcome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6094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9718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426708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556272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xit Sli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I learned that SQUARES with my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important POINTS to 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stion going AROUND in my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rust and Rap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st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akes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regard for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48280" y="1904760"/>
            <a:ext cx="3486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the mo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201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ommunicating Meaning</a:t>
            </a:r>
            <a:br>
              <a:rPr sz="3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portion of meaning inferred from non-verbal and verbal component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n Verbal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rbal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os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it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es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xim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fl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uscle T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acial Exp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earning Conversation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u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38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inking before answering and before asking additional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 comfortable with wait time in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oughtfulness in all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the importance of si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deep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4 Types of Pau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question is as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omeone sp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ing before answ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llective p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2:50:22Z</dcterms:created>
  <dc:creator>heather clifton</dc:creator>
  <dc:description/>
  <dc:language>en-US</dc:language>
  <cp:lastModifiedBy>Mary Lou</cp:lastModifiedBy>
  <dcterms:modified xsi:type="dcterms:W3CDTF">2010-09-25T02:08:14Z</dcterms:modified>
  <cp:revision>15</cp:revision>
  <dc:subject/>
  <dc:title>PowerPoint Presentation</dc:title>
</cp:coreProperties>
</file>