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C30733-193B-4D28-A260-CF9E850D3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90D-704D-4444-8811-DEB3A7CA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F75-28F6-43E8-9994-FD268F4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261-86C6-46E5-BFF4-5F1A0FC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6D0-5D15-4294-8E11-6C71F470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D1EF-63ED-4C4F-85A1-1C463E5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73BB-64B6-4F1F-AC60-5A5DA251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9883-7C95-4192-8302-FDD85C6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AAAD-9363-4B1C-BE22-9D6B9DCF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1D1B-2121-404B-B2AE-95F58C29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4FF-8F95-44AB-97BF-847BD9F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872D-0284-4965-B8E2-8F04D5B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153-4A1C-45C3-9800-AA6EB616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2C3B-28FC-4DCA-9983-CD26327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7F7-9E9E-4400-AFD4-53B799AE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D24-BDB2-4603-B298-46DE4FE4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9C4-4DB1-41F9-A381-6003D0FF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7CF-74D2-476C-A25E-F5D4AA8D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88EC-61BF-4797-B4D0-8219AA9F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B4C0-2727-470E-B597-F7077A5E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2B42-8CED-4B4F-BFFF-C4513B7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9CDA-B3EE-4A72-B379-B5890D17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8307-8F5C-4EB4-AD9E-7AD3BCC9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47E-20FF-4110-B43B-70DF81F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78AA-D627-41FD-BBEF-F7CF9952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B15A-66DC-449F-AF73-CD25CA9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06D2-B3CC-45B1-A256-56AA6733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CF3A-B93D-4D82-8CF3-CBEA6344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7976-5B85-458B-9697-CC7E89D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929A-8904-4827-8DAF-BF9103A0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7DB4-FEEC-49EF-B2D6-E2794D9B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3684-0B70-4A10-94D6-5B59B03E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BBBE-D634-4C83-A585-F4FCCDD2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C8A50-80AC-44E7-B5B6-BFA5481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B93-F70E-4702-9220-337288F0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54DE-264E-4D0D-BD33-5FCC96E4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259B-5593-4DDC-A446-ED67D52C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A595-4C68-4959-BDE8-8C418CB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E9BE-73BC-450E-80DF-869367F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1BBA9-1916-40D5-B330-863D72D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E57F9-45D7-421A-9D21-7429917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A85B-57AC-4B28-9FAC-FD821018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63EC-49B8-4197-AC0F-77AC13C5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1A32-6A6A-455C-AA51-89BD9251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E0A-0CCC-4EF9-856B-B69ABF06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022-6F6B-46B4-A0C6-0CDC322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2A1-BF36-4396-A4C8-010605B0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C78-208F-4187-B5F3-9C68065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75D-B25D-4B77-966C-187D5D0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E43-6642-4019-8417-9C710790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DC5E-66FF-4E83-B7FF-9D3E410F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DEF3-D5F9-48D7-8AB8-0D366F7658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3824-777B-4E67-B02E-01344B2ABB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08:14Z</dcterms:modified>
  <cp:revision>15</cp:revision>
  <dc:subject/>
  <dc:title>PowerPoint Presentation</dc:title>
</cp:coreProperties>
</file>