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0C5915-5C8B-4662-A0E0-B27FDFE8A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C8D-CFA5-425B-B96E-F31E0E3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765-8416-4EC2-A4A2-0805B983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FF2-3833-4982-BC89-5EBC36FB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103-B0D1-4449-9A9F-402B8D84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315-108B-44D7-B8A3-88A14F54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69E-763E-42FE-AE01-961A6C3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273-3844-4687-89EA-33F44B2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9F2-0BF1-4BCD-880F-3FAE5BC7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EA8-D391-4980-9A42-F8D17C62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F64-4184-4B98-97A0-BA92C43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4F0-A237-487D-A631-AB4CD4D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0F-C1FF-401E-8381-F718AE9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6509-4448-45E2-941A-2033EE1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B55E-6D2C-4633-ACEB-7D396FC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1F9-DB32-4835-B904-6772496D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713D-F1A9-4F40-93CA-D3E7770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9FE-DC9D-43B6-87D5-38AE3F77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D73B-F03A-4F97-8237-56DD4DDF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E1D7-8CB3-4CB4-8A01-F0F9001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0CA9-A23D-46A1-90E3-EB180F2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4780-CFB4-46F1-B3AE-6E39189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D879-150A-4D3F-B20A-5E1AB97C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FE9-EF59-4E13-A4FD-82A4C6B2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0C75-8AFF-4C88-B3A9-BB690E0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A170-2CAC-4FB8-87CD-6AEBABF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32A7-A20E-4098-B4DD-C273A02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3502-3DC8-4123-B8FA-9DFC75E2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8538-CA5C-4567-814D-3324133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071C-EEEE-4F9B-9903-4048B90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3CCC-C9D1-466E-B7EC-B47FED3A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349C-B849-42D2-89C0-57EAC3E9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6427-0A8E-42D2-80DA-34EA145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97DC-8FBA-4BD8-A584-5F6C5B6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EBD-E5E8-4709-9DCF-28BCCF0F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DB35-3A49-47AA-8698-BC99010B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1505-A496-46FF-BD09-2B32D5F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6477-7903-470A-82A1-5668FB5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8292-F6CF-4B32-AC88-A6104AD0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5521-08AF-47D7-9396-4AF6E11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4524-6EC3-4478-8EDE-595A569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E70C-8E68-4C42-AB5B-49584ECB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7467-E68E-491C-B2D1-37125639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2110-063B-44A2-AF9E-A2C62E59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BEA-1D08-4CDE-8C18-94A5D2F2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26C-FFCF-4EAC-95B8-2F41844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126-9DF9-4E72-81A1-793DFD1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49C-DC90-4E72-AD7F-FBD6BE3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027-531B-4FD2-BB91-C0E3F7A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62D-EA90-48C6-B4ED-2356B437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8397-C514-4AFF-8CDB-A22D4069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A343-1AA4-43E0-9B92-176E129B9E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B6C-E155-433B-B379-C71FED0B7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08:14Z</dcterms:modified>
  <cp:revision>15</cp:revision>
  <dc:subject/>
  <dc:title>PowerPoint Presentation</dc:title>
</cp:coreProperties>
</file>