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13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14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15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0936C3E-1AF5-4586-9369-6D1182E7C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rtain times to use this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lective listening helps people who are in the reptilian brain mode to become more resourceful fa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 a person trying to understand another person’s perspective. Speaker says something that triggers an emotion in the listener.  If listener interrupts the speaker with a reactive response, interferes with speakers’s communication process and shuts down.  Reactions are not wrong, they’re just not liste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k about your organization and your role.  What is the culture you are trying to create?  Go back to the purposes of reflective liste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5244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al arguing -- men tend to do this;   Reassuring -- women do this;   Understanding -- “I understand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king -- guys do th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are not wrong (sometimes useful and necessary) -- they are just not listening.  Takes rigor and discipline to be present for the other person.  Job is to take in the data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ch reactive response do you generally find yourself using?  What can you do about i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ener:  Interrupt every 30 seconds or so if necessary to let the speaker know you are listen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CDB9-C293-412E-9D41-78E834D4C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738D-4667-4D5E-99C8-08749FF9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3E6F-B98D-4337-B442-AE5BFC235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7890-C02D-44FC-B9A2-69A2BFB9E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84A7-D563-471E-BA8F-18097C5AB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72B9-7D0C-412B-949C-2441CC2A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E0BD-19C7-4FAF-A682-C73BE064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4944-6623-49C7-9546-B905A677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0D88-3570-402A-81EC-8E7B975C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6349-FE77-4070-97EB-59AA2115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FA11-F1EF-4549-B1BB-AFA1BEF7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CBBD-8099-48C6-9C7A-9B1C64CB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0CD3-553A-4DAA-8628-BE0CDBD1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5204-86CD-4D66-A813-934B4ADB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5F0B-B144-41F3-8869-609ADC69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482E-1D36-485C-8DAF-D74C3551D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6819-91F6-488D-950E-D3B03EE7A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BDBF8-2BB3-4DCF-BFA5-2C8751C4C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99C6A-313A-44A4-AFFE-2456F7F1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105E0-0CA9-4ED8-BA04-4768EB60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90994-029E-4AE6-9039-87106582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F9B6D-9510-4316-B263-F3699B7C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2FE3-40D1-41F5-94A9-28ED001F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989B5-3A17-43C7-BA32-39069C7F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0B076-DD23-4B0B-BCE9-73CCA925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7294D-D1ED-4A55-9DDE-FDDE0E72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114B1-5FEE-4332-8D82-6D14C55F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B50E5-962D-49CF-9CE6-132A1A66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D2EAA-7641-475A-965D-67338F102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53C79-EB16-4183-A82F-1F106C989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F48F8-2CC1-4005-8D43-C17C1F325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531BF-E72B-4A04-922C-BF0DAF31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50DE1-0F03-41E7-BBE5-205B5FD2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2087-E3B7-499A-9D84-A5BFBC62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9CD1A-5315-4E9C-B6A3-06EF9C54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C379A-3AB2-4515-98CC-2F6B642B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757ED-CC13-4EAC-8D5E-2E6DA58B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B65FE-3397-4D48-BAEC-54BBF08D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125CB-7E0C-4936-8587-1D989FBC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96461-9703-49E3-8B83-D93556B3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B2A6B-CD09-4CE3-8BEE-A48412BA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A76AB-D822-4D8A-9750-D9E4E7B54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CAFBC-0315-41B0-9E99-19A600151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3BD3-BA50-47A8-8F92-33DFF448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54DF-6C6D-44E7-9043-F7A94CB2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8942-0B73-4127-8935-8545EC4E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E1BC-9FA0-48C7-BAA0-8253EB5A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BFCF-582D-4AC0-87D9-FA9D0EC2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2183-12BB-4901-8955-EE5739094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9277-CC64-4F50-8362-2D0543174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322B-B463-4767-9D3F-1F174767244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7CC6-E1A3-43D8-A469-5C54736F273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ssential Ques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 teacher, what principles underlie my relationship and interactions with my stud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I build trust with my stud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I encourage reflection and minimize advice giv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I demonstrate that I care about my stud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I listen effective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I ask questions that will promote learning and reflec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I empower students to become independent learners committed to their own continuous develop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flective Listening Purpos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 distortion, bias, de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y accuracy, especially when dealing with important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e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relationship and t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ffective Listen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tes 4 unproductive patterns of liste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biograph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dgment/critic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quiry list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list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tes reactive respo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active Respons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 A stimulus-response reaction to something the speaker says; a non-listening response that interferes with the speaker completing his / her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ategories of Reactive Respons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912960" y="2138400"/>
          <a:ext cx="8110080" cy="3709440"/>
        </p:xfrm>
        <a:graphic>
          <a:graphicData uri="http://schemas.openxmlformats.org/drawingml/2006/table">
            <a:tbl>
              <a:tblPr/>
              <a:tblGrid>
                <a:gridCol w="2703600"/>
                <a:gridCol w="2702880"/>
                <a:gridCol w="2703600"/>
              </a:tblGrid>
              <a:tr h="106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Judg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0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arenting 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olv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voiding / Diver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8eb2"/>
                    </a:solidFill>
                  </a:tcPr>
                </a:tc>
              </a:tr>
              <a:tr h="264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greeing / disagree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riticizing / blam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iagnos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ais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0f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Order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hreaten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oraliz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dvis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Question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oblem solv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cff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ogical argu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eassur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ivert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nderstand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Jok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8eb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nother Pause . . 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kind of reactive responses do you tend to use?  When is it useful?  When does it interfere with good communi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your thoughts with a learning part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araphras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om the Greek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a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(beyond) +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hrazei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(to tell) = to tell bey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ster:  A rewording of the thought or meaning expressed in something that has been said or written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araphras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73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Are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mo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t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049720" y="1904760"/>
            <a:ext cx="3973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Mess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 am 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 understand you (or am trying 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rincipl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tend fu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en with the intention to underst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pture the essence of the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lect the essence of voice tone and ges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the paraphrase shorter than the original sta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aphrase before asking a ques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the pronoun “you,” instead of “I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apted from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enter for Cognitive Coa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2 Distinc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ffective paraphrase expresses empathy by reflecting both the feeling and the content of the mess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athizing is a statement that only reflects the feelings of the mess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3 Level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 and clarif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ize and organ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 conceptual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apted from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enter for Cognitive Co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Power of Relationship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47920" y="1981080"/>
            <a:ext cx="6476760" cy="381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752120" y="2514600"/>
            <a:ext cx="2560680" cy="3016080"/>
          </a:xfrm>
          <a:prstGeom prst="line">
            <a:avLst/>
          </a:prstGeom>
          <a:ln w="38160">
            <a:solidFill>
              <a:srgbClr val="730c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343400" y="2514600"/>
            <a:ext cx="2711520" cy="3016080"/>
          </a:xfrm>
          <a:prstGeom prst="line">
            <a:avLst/>
          </a:prstGeom>
          <a:ln w="38160">
            <a:solidFill>
              <a:srgbClr val="730c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 rot="18697200">
            <a:off x="2468520" y="3655800"/>
            <a:ext cx="1195200" cy="5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CONTENT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 rot="2808600">
            <a:off x="4698720" y="3682800"/>
            <a:ext cx="1523880" cy="5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PEDAGOGY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52480" y="5562720"/>
            <a:ext cx="5257800" cy="0"/>
          </a:xfrm>
          <a:prstGeom prst="line">
            <a:avLst/>
          </a:prstGeom>
          <a:ln w="38160">
            <a:solidFill>
              <a:srgbClr val="730c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819520" y="5334120"/>
            <a:ext cx="34653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30c17"/>
                </a:solidFill>
                <a:latin typeface="Times New Roman"/>
              </a:rPr>
              <a:t>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cknowledge and Clarif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4878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’re thinking that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, you’re wondering if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’re frustrated because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’re hoping that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’re concerned about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Adapted from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6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Center for Cognitive Coach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5943600" y="2627280"/>
          <a:ext cx="2522520" cy="217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2627280"/>
                    <a:ext cx="2522520" cy="21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ummarize and Organiz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5334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, there are three issues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, you’re ready to move on to . .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rst you’re going to . . . then you will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 the one hand . . . and on the other hand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apted from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enter for Cognitive Coac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161040" y="3049560"/>
          <a:ext cx="2862360" cy="190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61040" y="3049560"/>
                    <a:ext cx="286236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hift Conceptual Focu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976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oals, values, beliefs, assumptions, conce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, a strong belief you have is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assumption you’re operating from is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goal for you is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apted from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enter for Cognitive Coa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5267160" y="2819520"/>
          <a:ext cx="2503800" cy="251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67160" y="2819520"/>
                    <a:ext cx="25038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ore Paraphrasing 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ractice in Triad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3 roles: an observer, paraphraser, person with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 #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who is complaining about having too much on his/her pl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 #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 who is struggling with classroom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 #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who is angry about having to read a novel he/she doesn’t li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ositive Presupposi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ositive presuppositions that presume a person has ability, attitude and inten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ommunicates that the listener expects that the person has already considered the question or issue being rai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nor the speak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acceptance and resp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ve Advoc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5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5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5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rob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arif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itive Presuppos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ective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diational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71200" y="663480"/>
            <a:ext cx="76755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robing Ques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2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probe is to focus thinking.  Language is filled with generalities and ambiguities.  Coaches probe for specifi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gue verbs and no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71560" y="663480"/>
            <a:ext cx="7843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ffective Ques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use thinking, thus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ine events from multiple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oss categor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Questions that Invite Think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roachable voice (vs. credible voi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ural fo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l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itive presuppos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Anatomy of a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Powerful Thinking Question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e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ural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dgment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tative and exploratory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able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1629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ltimate Goal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6888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reciprocal, learning-focused relationships, support self-directed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71560" y="749160"/>
            <a:ext cx="784368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ffective Questions Practi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7543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the questions below to utilize the characteristics of effectiv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d the students lear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you consider making sure all the students understood the learning before moving 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know it is important to use visuals with second language learners, how did you do that during the less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you actively involve students during the less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71560" y="663480"/>
            <a:ext cx="79279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Planning Conversation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82137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ches mediate by having the teach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 goals an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cipate teaching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vidence of student 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data gathering focus and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71560" y="533160"/>
            <a:ext cx="79279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Benefits of the 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lanning Conversa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4960" y="2057400"/>
            <a:ext cx="8518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sts in developing t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an opportunity for mental rehear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s a common understanding of what will be ob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s parameters for the reflecting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s self-co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71200" y="663480"/>
            <a:ext cx="81630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Planning Conversation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071720" y="2060280"/>
            <a:ext cx="77277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serve the demonstration conferen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ord your observa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71560" y="663480"/>
            <a:ext cx="79279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Guiding Questions for Plann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30480" y="2292120"/>
            <a:ext cx="7727760" cy="34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 the example questions in the pack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practice, these questions are supplemented with probing ques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05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rsation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Have a clear purpo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main neutr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e prepared with questions and probes in adva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sk questions to get information, to understand more thoroughly, to sustain discuss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Use active listening skil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alance air ti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47960" y="121896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ustain discussion until you have explored the topic thorough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frain from giving advi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lign verbal and non-verbal communic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e sensitive to feelings, fears, and emo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aintain positive inten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ring closu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Interrogation vs. Inquir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ve a conversation at your table.   What are the characteristics of interrogation?  What does it look l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Interrogation vs. Inquir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characteristics of inquiry?  How does inquiry differ from interrogation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nference Skill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ain neu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prepared with questions and probes in adv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k questions to get information, to understand more thoroughly, to sustain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ctive listening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tain discussion until you have explored the topic thorough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rain from giving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gn verbal and non-verbal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ance ai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sensitive to feelings, fears, and emo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 positive inten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ng cl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aching Behaviors that Influence Think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ing rapport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ting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si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phra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nowledg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data or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85800" y="457200"/>
            <a:ext cx="77724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st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+</a:t>
            </a:r>
            <a:br>
              <a:rPr sz="3200"/>
            </a:br>
            <a:br>
              <a:rPr sz="4000"/>
            </a:b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Rappor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+ </a:t>
            </a:r>
            <a:br>
              <a:rPr sz="3200"/>
            </a:br>
            <a:br>
              <a:rPr sz="4000"/>
            </a:b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Commonly Defined Goal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+</a:t>
            </a:r>
            <a:br>
              <a:rPr sz="3200"/>
            </a:b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larity of Outcomes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=</a:t>
            </a:r>
            <a:br>
              <a:rPr sz="3200"/>
            </a:br>
            <a:br>
              <a:rPr sz="40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914400" y="609480"/>
            <a:ext cx="214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90720" y="29718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143000" y="4267080"/>
            <a:ext cx="5349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43000" y="5562720"/>
            <a:ext cx="22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xit Slip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I learned that SQUARES with my beli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important POINTS to re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question going AROUND in my 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rust and Rappor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st F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akes ti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regard for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48280" y="1904760"/>
            <a:ext cx="3486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 the mo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201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ommunicating Meaning</a:t>
            </a:r>
            <a:br>
              <a:rPr sz="36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portion of meaning inferred from non-verbal and verbal component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8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6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n Verbal Compon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erbal Compon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os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it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Ges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olu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oxim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Infle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uscle Te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Facial Expres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o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Learning Conversation Skill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phra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ve Presuppo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aus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38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thinking before answering and before asking additional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ome comfortable with wait time in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oughtfulness in all inte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the importance of si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deep list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4 Types of Paus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a question is as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someone sp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iting before answ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llective p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3T02:50:22Z</dcterms:created>
  <dc:creator>heather clifton</dc:creator>
  <dc:description/>
  <dc:language>en-US</dc:language>
  <cp:lastModifiedBy>Mary Lou</cp:lastModifiedBy>
  <dcterms:modified xsi:type="dcterms:W3CDTF">2010-09-25T02:10:16Z</dcterms:modified>
  <cp:revision>15</cp:revision>
  <dc:subject/>
  <dc:title>PowerPoint Presentation</dc:title>
</cp:coreProperties>
</file>